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E59C-1A60-461F-B5BA-4372A6EAC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3868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547280" y="3906360"/>
            <a:ext cx="73868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DE39-5F76-4998-850A-A423AAC8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332680" y="155700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547280" y="390636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332680" y="390636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BF44-C7A1-4BBE-A598-8A1B15C32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237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44600" y="1557000"/>
            <a:ext cx="237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542280" y="1557000"/>
            <a:ext cx="237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547280" y="3906360"/>
            <a:ext cx="237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4044600" y="3906360"/>
            <a:ext cx="237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542280" y="3906360"/>
            <a:ext cx="237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9060-75CE-4F92-BD03-CDE926AA1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0DD41-3A86-4FCA-919C-B239BA261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547280" y="1557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78060-C583-4E9B-B99E-AC620788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4554-CB4D-4672-8CA4-99776244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046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32680" y="1557000"/>
            <a:ext cx="36046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4D0C-CDCD-4856-9EBB-AF756183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C004-E7DE-49AF-A171-794C8822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476360" y="259920"/>
            <a:ext cx="7477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7ABF-9076-4C4A-9672-A026E6A6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32680" y="1557000"/>
            <a:ext cx="36046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547280" y="390636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EAD75-F5E2-48A5-AC19-450CAFF3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547280" y="1557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A41F-CC06-42DB-B0F5-4E9A22AC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046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32680" y="155700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32680" y="390636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1F8F-9341-40FE-9F84-CC3EAFA7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332680" y="155700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547280" y="3906360"/>
            <a:ext cx="73868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B47F-8009-4537-8F7E-4E827E7F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3868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547280" y="3906360"/>
            <a:ext cx="73868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D584-E022-48DD-B18F-726173CA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32680" y="155700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547280" y="390636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332680" y="390636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534B-9652-401A-956D-150697E96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237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044600" y="1557000"/>
            <a:ext cx="237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542280" y="1557000"/>
            <a:ext cx="237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547280" y="3906360"/>
            <a:ext cx="237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4044600" y="3906360"/>
            <a:ext cx="237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542280" y="3906360"/>
            <a:ext cx="237816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1B04-5A8E-4BB0-AD4E-DFA54C43B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AE14-C9E5-4326-9A2E-130134C5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046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32680" y="1557000"/>
            <a:ext cx="36046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13EF-8A84-4AA4-BC89-2FA42B9C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8ECD-CF49-40B3-B60F-DBC0D8EE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476360" y="259920"/>
            <a:ext cx="7477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9BA1-999C-401D-AC50-3D15F065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2680" y="1557000"/>
            <a:ext cx="36046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47280" y="390636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2488-4AB7-4322-9FAA-71C1D5B9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046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2680" y="155700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2680" y="390636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35F8-EEEA-4522-B4CE-3EB93A67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32680" y="1557000"/>
            <a:ext cx="360468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547280" y="3906360"/>
            <a:ext cx="7386840" cy="21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82AB-F32D-4662-8347-8EF50842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440"/>
            <a:ext cx="611280" cy="6859440"/>
            <a:chOff x="0" y="-1440"/>
            <a:chExt cx="611280" cy="6859440"/>
          </a:xfrm>
        </p:grpSpPr>
        <p:sp>
          <p:nvSpPr>
            <p:cNvPr id="1" name=""/>
            <p:cNvSpPr/>
            <p:nvPr/>
          </p:nvSpPr>
          <p:spPr>
            <a:xfrm>
              <a:off x="41040" y="-1440"/>
              <a:ext cx="56844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1040" y="4907160"/>
              <a:ext cx="5623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200" y="4856400"/>
              <a:ext cx="57600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9160" y="2816280"/>
              <a:ext cx="5821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8040" y="3537000"/>
              <a:ext cx="46260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78560" y="425520"/>
              <a:ext cx="4320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81440" y="260640"/>
              <a:ext cx="42984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6720" y="-1440"/>
              <a:ext cx="2721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20" y="0"/>
              <a:ext cx="1418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4176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3200" y="6228000"/>
              <a:ext cx="55044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1547280" y="1557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40AF-9F42-4EB6-9BCD-705DD33EC9D7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" name="" descr=""/>
          <p:cNvPicPr/>
          <p:nvPr/>
        </p:nvPicPr>
        <p:blipFill>
          <a:blip r:embed="rId7"/>
          <a:stretch/>
        </p:blipFill>
        <p:spPr>
          <a:xfrm>
            <a:off x="0" y="0"/>
            <a:ext cx="609480" cy="59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8302680" y="-1440"/>
            <a:ext cx="841320" cy="6859440"/>
            <a:chOff x="8302680" y="-1440"/>
            <a:chExt cx="841320" cy="6859440"/>
          </a:xfrm>
        </p:grpSpPr>
        <p:sp>
          <p:nvSpPr>
            <p:cNvPr id="55" name=""/>
            <p:cNvSpPr/>
            <p:nvPr/>
          </p:nvSpPr>
          <p:spPr>
            <a:xfrm>
              <a:off x="8359560" y="-1440"/>
              <a:ext cx="78264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59560" y="4906800"/>
              <a:ext cx="7747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350200" y="4856040"/>
              <a:ext cx="792000" cy="200052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43720" y="2816280"/>
              <a:ext cx="80028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396280" y="3537000"/>
              <a:ext cx="63648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548560" y="425520"/>
              <a:ext cx="59364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553240" y="260280"/>
              <a:ext cx="590760" cy="307188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353440" y="-1440"/>
              <a:ext cx="37440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353440" y="0"/>
              <a:ext cx="19512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302680" y="0"/>
              <a:ext cx="5868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362800" y="6227640"/>
              <a:ext cx="75744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97E1-C54B-4831-805E-7D133F76E7F8}" type="slidenum">
              <a:rPr b="0" lang="ru-RU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8317080" y="0"/>
            <a:ext cx="826920" cy="8096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4000" y="134136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СИСТЕМА МОНИТОРИНГА И ОЦЕНКИ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РЕАЛИЗАЦИИ КОМПОНЕНТОВ ГОСУДАРСТВЕННОЙ ПРОГРАММЫ РЕФОРМИРОВАНИЯ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И РАЗВИТИЯ ЗДРАВООХРАНЕНИЯ  РЕСПУБЛИКИ КАЗАХСТАН </a:t>
            </a: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НА 2005-2010 ГОДЫ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15320" y="5516640"/>
            <a:ext cx="472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Генеральный директор НЦПФЗОЖ,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д.м.н., профессор Тулебаев К.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2691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Проблемы во время сбора данных</a:t>
            </a:r>
            <a:r>
              <a:rPr b="0" lang="ru-RU" sz="44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71640" y="1413000"/>
            <a:ext cx="7921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По некоторым индикаторам были получены не корректные данные (например, указано определенное количество организаций ПМСП, а информация по необходимому их количеству меньше почти в 2 раза)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По некоторым показателям были представлены не полные данные, что затрудняло анализ ситуации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Финансовые показатели представлялись в разных единицах измерения (млн. тенге, тыс. тенге, абсолютные числа), что затрудняло  анализ этих данных 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Некоторые показатели вообще не были получены в силу отсутствия контроля со стороны департаментов здравоохранения (в основном это касается показателей ответственности государства и работодателей за здоровье населения) 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4772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Результаты апробаци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00000" y="1341000"/>
            <a:ext cx="79200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 7 показателям сбор будет осуществляться с 2007 – 2008 годов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 20 показателям сбор будет осуществляться с 2006 года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 18 индикаторам информация не была получен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 135 индикаторам была получена информация полностью или частично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роводился сравнительный анализ показателей 2005 года по сравнению с данными 2004 года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042920" y="333360"/>
            <a:ext cx="7477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Результаты апробации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1197000"/>
            <a:ext cx="83883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достаточная обеспеченность медицинских организаций протоколами;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достаточный уровень подготовленности медицинских работников по использованию протоколов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достаточный контроль за оказанием медицинских услуг в соответствии с протоколами;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тсутствие утвержденных стандартов оснащенности медицинским оборудованием и изделиями медицинского назначения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обеспеченность организаций ПМСП методическими материалами по скринингу и профилактическим осмотрам, методическими и информационными материалами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освоение не только средств местного бюджета, но и целевых трансвертов (84,7%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едостаточное обеспечение медицинских организаций минимальным стандартом оснащенности медицинским оборудованием и автотранспортом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88000" indent="-288000"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Структура расходов в системе здравоохранения (стационар-75,6%, ПМСП-24,4%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88000" indent="-288000"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роведена апробация рейтинговой оценки регионов по реализации Госпрограммы 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Методическое руководство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6920" y="155700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Основные принципы и приоритеты системы мониторинга и оценки в реализации Государственной программы реформирования и развития здравоохранения РК на 2005 – 2010 годы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Организационные мероприятия по разработке и внедрению системы мониторинга и оценки реализации Госпрограммы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Инструкция по сбору информации системы мониторинга и оценки реализации Госпрограммы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Временные отчетные формы по сбору информации по системе мониторинга и оценки реализации Госпрограммы и порядок их заполнения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Социологический опрос населения 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Социологический опрос руководителей медицинских организаций о ходе реализации Госпрограммы</a:t>
            </a:r>
            <a:endParaRPr b="0" lang="en-US" sz="2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Региональные программы мониторинга и оценки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71640" y="1483920"/>
            <a:ext cx="7921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риказ Министерства здравоохранения от 22.09.2006г. №425 «О проведении республиканского семинара «Подходы и принципы к системе мониторинга и оценки программ здравоохранения в Казахстане»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39 участников; из них: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4 представителей регионов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6 представителей международных организаций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5 представителей МЗ РК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 представитель Аппарата Президента РК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11 представителей Республиканских организаций;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2 представителя ТОО «Мединформ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186920" y="2060640"/>
            <a:ext cx="738684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Из 32 индикаторов конечного результата страновой системы мониторинга и оценки Госпрограммы 17 индикаторов конечного результата учтены в региональных программах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Всего примерно 110 индикаторов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Региональные программы мониторинга и оценки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5280" y="404280"/>
            <a:ext cx="79930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Указ Президента РК от 13 сентября 2004 года №1438 «О Государственной программе реформирования и развития здравоохранения Республики Казахстан на 2005-2010 годы»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Постановление Правительства РК от 13.10.2004г. №1050 « Об утверждении Плана мероприятий по реализации Государственной программы реформирования и развития здравоохранения Республики Казахстан на 2005-2010 годы»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5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Концепция системы мониторинга и оценки реализации Госпрограммы</a:t>
            </a:r>
            <a:endParaRPr b="0" lang="en-US" sz="3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47280" y="2060280"/>
            <a:ext cx="7386840" cy="39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Программно – целевой подход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Функциональный подход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Методология «Дерево  цели»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4920" y="2133720"/>
            <a:ext cx="9108720" cy="3382200"/>
            <a:chOff x="34920" y="2133720"/>
            <a:chExt cx="9108720" cy="3382200"/>
          </a:xfrm>
        </p:grpSpPr>
        <p:sp>
          <p:nvSpPr>
            <p:cNvPr id="115" name=""/>
            <p:cNvSpPr/>
            <p:nvPr/>
          </p:nvSpPr>
          <p:spPr>
            <a:xfrm rot="10800000">
              <a:off x="34920" y="2140560"/>
              <a:ext cx="9108720" cy="3375000"/>
            </a:xfrm>
            <a:prstGeom prst="rtTriangle">
              <a:avLst/>
            </a:prstGeom>
            <a:solidFill>
              <a:srgbClr val="ccecff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853760" y="3433680"/>
              <a:ext cx="106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Вклад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410880" y="2923560"/>
              <a:ext cx="129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Процесс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34960" y="2434320"/>
              <a:ext cx="2200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Промежуточный результат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60360" y="2206080"/>
              <a:ext cx="151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Ожидаемый результат</a:t>
              </a:r>
              <a:endParaRPr b="0" lang="en-US" sz="16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42240" y="2133720"/>
              <a:ext cx="106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Цель</a:t>
              </a: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07720" y="2141280"/>
              <a:ext cx="0" cy="717120"/>
            </a:xfrm>
            <a:prstGeom prst="line">
              <a:avLst/>
            </a:prstGeom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82680" y="2141280"/>
              <a:ext cx="0" cy="1467720"/>
            </a:xfrm>
            <a:prstGeom prst="line">
              <a:avLst/>
            </a:prstGeom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60400" y="2139480"/>
              <a:ext cx="0" cy="2299680"/>
            </a:xfrm>
            <a:prstGeom prst="line">
              <a:avLst/>
            </a:prstGeom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7692480" y="2141280"/>
              <a:ext cx="8280" cy="2841120"/>
            </a:xfrm>
            <a:prstGeom prst="line">
              <a:avLst/>
            </a:prstGeom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78120" y="2428200"/>
              <a:ext cx="455400" cy="430560"/>
            </a:xfrm>
            <a:prstGeom prst="leftArrow">
              <a:avLst>
                <a:gd name="adj1" fmla="val 50000"/>
                <a:gd name="adj2" fmla="val 26442"/>
              </a:avLst>
            </a:prstGeom>
            <a:solidFill>
              <a:srgbClr val="ff0000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473960" y="3362760"/>
              <a:ext cx="454680" cy="430560"/>
            </a:xfrm>
            <a:prstGeom prst="leftArrow">
              <a:avLst>
                <a:gd name="adj1" fmla="val 50000"/>
                <a:gd name="adj2" fmla="val 26401"/>
              </a:avLst>
            </a:prstGeom>
            <a:solidFill>
              <a:srgbClr val="ff0000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55840" y="2858760"/>
              <a:ext cx="454680" cy="430920"/>
            </a:xfrm>
            <a:prstGeom prst="leftArrow">
              <a:avLst>
                <a:gd name="adj1" fmla="val 50000"/>
                <a:gd name="adj2" fmla="val 26378"/>
              </a:avLst>
            </a:prstGeom>
            <a:solidFill>
              <a:srgbClr val="ff0000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04960" y="2141280"/>
              <a:ext cx="455400" cy="430560"/>
            </a:xfrm>
            <a:prstGeom prst="leftArrow">
              <a:avLst>
                <a:gd name="adj1" fmla="val 50000"/>
                <a:gd name="adj2" fmla="val 26442"/>
              </a:avLst>
            </a:prstGeom>
            <a:solidFill>
              <a:srgbClr val="ff0000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035320" y="5876640"/>
            <a:ext cx="4073040" cy="556920"/>
            <a:chOff x="5035320" y="5876640"/>
            <a:chExt cx="4073040" cy="556920"/>
          </a:xfrm>
        </p:grpSpPr>
        <p:sp>
          <p:nvSpPr>
            <p:cNvPr id="130" name=""/>
            <p:cNvSpPr/>
            <p:nvPr/>
          </p:nvSpPr>
          <p:spPr>
            <a:xfrm rot="10800000">
              <a:off x="8148960" y="5876640"/>
              <a:ext cx="959400" cy="556920"/>
            </a:xfrm>
            <a:custGeom>
              <a:avLst/>
              <a:gdLst>
                <a:gd name="textAreaLeft" fmla="*/ 0 w 959400"/>
                <a:gd name="textAreaRight" fmla="*/ 959760 w 959400"/>
                <a:gd name="textAreaTop" fmla="*/ 0 h 556920"/>
                <a:gd name="textAreaBottom" fmla="*/ 557280 h 5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0800000">
              <a:off x="5035320" y="5876640"/>
              <a:ext cx="959400" cy="556920"/>
            </a:xfrm>
            <a:custGeom>
              <a:avLst/>
              <a:gdLst>
                <a:gd name="textAreaLeft" fmla="*/ 0 w 959400"/>
                <a:gd name="textAreaRight" fmla="*/ 959760 w 959400"/>
                <a:gd name="textAreaTop" fmla="*/ 0 h 556920"/>
                <a:gd name="textAreaBottom" fmla="*/ 557280 h 5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0800000">
              <a:off x="5813280" y="5876640"/>
              <a:ext cx="959400" cy="556920"/>
            </a:xfrm>
            <a:custGeom>
              <a:avLst/>
              <a:gdLst>
                <a:gd name="textAreaLeft" fmla="*/ 0 w 959400"/>
                <a:gd name="textAreaRight" fmla="*/ 959760 w 959400"/>
                <a:gd name="textAreaTop" fmla="*/ 0 h 556920"/>
                <a:gd name="textAreaBottom" fmla="*/ 557280 h 5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0800000">
              <a:off x="6591960" y="5876640"/>
              <a:ext cx="959400" cy="556920"/>
            </a:xfrm>
            <a:custGeom>
              <a:avLst/>
              <a:gdLst>
                <a:gd name="textAreaLeft" fmla="*/ 0 w 959400"/>
                <a:gd name="textAreaRight" fmla="*/ 959760 w 959400"/>
                <a:gd name="textAreaTop" fmla="*/ 0 h 556920"/>
                <a:gd name="textAreaBottom" fmla="*/ 557280 h 5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10800000">
              <a:off x="7370280" y="5876640"/>
              <a:ext cx="959400" cy="556920"/>
            </a:xfrm>
            <a:custGeom>
              <a:avLst/>
              <a:gdLst>
                <a:gd name="textAreaLeft" fmla="*/ 0 w 959400"/>
                <a:gd name="textAreaRight" fmla="*/ 959760 w 959400"/>
                <a:gd name="textAreaTop" fmla="*/ 0 h 556920"/>
                <a:gd name="textAreaBottom" fmla="*/ 557280 h 5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145880" y="5876640"/>
            <a:ext cx="4073040" cy="556920"/>
            <a:chOff x="1145880" y="5876640"/>
            <a:chExt cx="4073040" cy="556920"/>
          </a:xfrm>
        </p:grpSpPr>
        <p:sp>
          <p:nvSpPr>
            <p:cNvPr id="136" name=""/>
            <p:cNvSpPr/>
            <p:nvPr/>
          </p:nvSpPr>
          <p:spPr>
            <a:xfrm rot="10800000">
              <a:off x="4259520" y="5876640"/>
              <a:ext cx="959400" cy="556920"/>
            </a:xfrm>
            <a:custGeom>
              <a:avLst/>
              <a:gdLst>
                <a:gd name="textAreaLeft" fmla="*/ 0 w 959400"/>
                <a:gd name="textAreaRight" fmla="*/ 959760 w 959400"/>
                <a:gd name="textAreaTop" fmla="*/ 0 h 556920"/>
                <a:gd name="textAreaBottom" fmla="*/ 557280 h 5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99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0800000">
              <a:off x="1145880" y="5876640"/>
              <a:ext cx="959400" cy="556920"/>
            </a:xfrm>
            <a:custGeom>
              <a:avLst/>
              <a:gdLst>
                <a:gd name="textAreaLeft" fmla="*/ 0 w 959400"/>
                <a:gd name="textAreaRight" fmla="*/ 959760 w 959400"/>
                <a:gd name="textAreaTop" fmla="*/ 0 h 556920"/>
                <a:gd name="textAreaBottom" fmla="*/ 557280 h 5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99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10800000">
              <a:off x="1923840" y="5876640"/>
              <a:ext cx="959400" cy="556920"/>
            </a:xfrm>
            <a:custGeom>
              <a:avLst/>
              <a:gdLst>
                <a:gd name="textAreaLeft" fmla="*/ 0 w 959400"/>
                <a:gd name="textAreaRight" fmla="*/ 959760 w 959400"/>
                <a:gd name="textAreaTop" fmla="*/ 0 h 556920"/>
                <a:gd name="textAreaBottom" fmla="*/ 557280 h 5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99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10800000">
              <a:off x="2702520" y="5876640"/>
              <a:ext cx="959400" cy="556920"/>
            </a:xfrm>
            <a:custGeom>
              <a:avLst/>
              <a:gdLst>
                <a:gd name="textAreaLeft" fmla="*/ 0 w 959400"/>
                <a:gd name="textAreaRight" fmla="*/ 959760 w 959400"/>
                <a:gd name="textAreaTop" fmla="*/ 0 h 556920"/>
                <a:gd name="textAreaBottom" fmla="*/ 557280 h 5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99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10800000">
              <a:off x="3480840" y="5876640"/>
              <a:ext cx="959400" cy="556920"/>
            </a:xfrm>
            <a:custGeom>
              <a:avLst/>
              <a:gdLst>
                <a:gd name="textAreaLeft" fmla="*/ 0 w 959400"/>
                <a:gd name="textAreaRight" fmla="*/ 959760 w 959400"/>
                <a:gd name="textAreaTop" fmla="*/ 0 h 556920"/>
                <a:gd name="textAreaBottom" fmla="*/ 557280 h 5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9999"/>
            </a:solidFill>
            <a:ln w="936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Методология «Дерево  цели»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продолжение)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1280" y="2708280"/>
            <a:ext cx="8121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Индикаторы «цели» или достижения по основным направлениям Государственной программы (Госпрограмма)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Индикаторы «эффекта» или достижения ожидаемых (конечных) результатов Госпрограммы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Индикаторы «результативности» или промежуточные результаты, которые позволяют отслеживать следствие реализации Плана Госпрограммы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Индикаторы «процесса» или действия, которые позволяют отслеживать ход реализации Плана Госпрограммы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Индикаторы «вклада» или объем выделенных ресурсов на реализацию Госпрограммы и степень их освоения.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6920" y="1700280"/>
            <a:ext cx="80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5 категорий индикаторов мониторинга и оценки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9000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Индикаторы – «Цели»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5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Улучшение здоровья населени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тепень солидарной ответственности государства и человека за его здоровье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Улучшение охраны здоровья матери и ребенка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овершенствование системы организации медицинской помощи населению.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овершенствование системы управления здравоохранением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042920" y="333360"/>
            <a:ext cx="6193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Индикаторы  эффекта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224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индикатора конечного результат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42920" y="4653000"/>
            <a:ext cx="676764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Всего - 180 показателей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16000" y="3213000"/>
            <a:ext cx="770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Индикаторы результативности, процесса, вклада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07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Схема потоков информации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системы мониторинга и оценк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90920" y="3070080"/>
            <a:ext cx="2232000" cy="1582920"/>
          </a:xfrm>
          <a:prstGeom prst="ellipse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Рабочий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орган</a:t>
            </a: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по СМ и О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649840" y="1989000"/>
            <a:ext cx="2592360" cy="642600"/>
          </a:xfrm>
          <a:prstGeom prst="rect">
            <a:avLst/>
          </a:prstGeom>
          <a:solidFill>
            <a:srgbClr val="ccecff"/>
          </a:solidFill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АИС «Здравоохранение»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78560" y="4797360"/>
            <a:ext cx="2592360" cy="642600"/>
          </a:xfrm>
          <a:prstGeom prst="rect">
            <a:avLst/>
          </a:prstGeom>
          <a:solidFill>
            <a:srgbClr val="ffccff"/>
          </a:solidFill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Дополнительная информаци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74920" y="4870440"/>
            <a:ext cx="2592360" cy="642600"/>
          </a:xfrm>
          <a:prstGeom prst="rect">
            <a:avLst/>
          </a:prstGeom>
          <a:solidFill>
            <a:srgbClr val="66ffff"/>
          </a:solidFill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1311"/>
                </a:solidFill>
                <a:latin typeface="Arial"/>
              </a:rPr>
              <a:t>«Мединфо»            База данных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58920" y="1844640"/>
            <a:ext cx="2592360" cy="916920"/>
          </a:xfrm>
          <a:prstGeom prst="rect">
            <a:avLst/>
          </a:prstGeom>
          <a:solidFill>
            <a:srgbClr val="ffcc99"/>
          </a:solidFill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Arial"/>
              </a:rPr>
              <a:t>Другие министерства и ведомств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41480" y="2781360"/>
            <a:ext cx="792360" cy="647640"/>
          </a:xfrm>
          <a:prstGeom prst="line">
            <a:avLst/>
          </a:prstGeom>
          <a:ln w="28440">
            <a:solidFill>
              <a:srgbClr val="2f1311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3059280" y="4221000"/>
            <a:ext cx="623880" cy="649440"/>
          </a:xfrm>
          <a:prstGeom prst="line">
            <a:avLst/>
          </a:prstGeom>
          <a:ln w="28440">
            <a:solidFill>
              <a:srgbClr val="2f1311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506560" y="2637000"/>
            <a:ext cx="1008360" cy="825480"/>
          </a:xfrm>
          <a:prstGeom prst="line">
            <a:avLst/>
          </a:prstGeom>
          <a:ln w="28440">
            <a:solidFill>
              <a:srgbClr val="2f1311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22920" y="3933720"/>
            <a:ext cx="1224000" cy="863640"/>
          </a:xfrm>
          <a:prstGeom prst="line">
            <a:avLst/>
          </a:prstGeom>
          <a:ln w="28440">
            <a:solidFill>
              <a:srgbClr val="2f1311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54200" y="2781360"/>
            <a:ext cx="936720" cy="863640"/>
          </a:xfrm>
          <a:prstGeom prst="line">
            <a:avLst/>
          </a:prstGeom>
          <a:ln w="28440">
            <a:solidFill>
              <a:srgbClr val="2f1311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770200" y="4149720"/>
            <a:ext cx="720720" cy="720720"/>
          </a:xfrm>
          <a:prstGeom prst="line">
            <a:avLst/>
          </a:prstGeom>
          <a:ln w="28440">
            <a:solidFill>
              <a:srgbClr val="2f1311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649840" y="4149720"/>
            <a:ext cx="936720" cy="647640"/>
          </a:xfrm>
          <a:prstGeom prst="line">
            <a:avLst/>
          </a:prstGeom>
          <a:ln w="28440">
            <a:solidFill>
              <a:srgbClr val="2f1311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5649840" y="2637000"/>
            <a:ext cx="1152720" cy="1011240"/>
          </a:xfrm>
          <a:prstGeom prst="line">
            <a:avLst/>
          </a:prstGeom>
          <a:ln w="28440">
            <a:solidFill>
              <a:srgbClr val="2f1311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10200" y="5734080"/>
            <a:ext cx="2160360" cy="520200"/>
          </a:xfrm>
          <a:prstGeom prst="rect">
            <a:avLst/>
          </a:prstGeom>
          <a:solidFill>
            <a:srgbClr val="ffccff"/>
          </a:solidFill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Социологические исследования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86560" y="5734080"/>
            <a:ext cx="2160720" cy="520200"/>
          </a:xfrm>
          <a:prstGeom prst="rect">
            <a:avLst/>
          </a:prstGeom>
          <a:solidFill>
            <a:srgbClr val="ffccff"/>
          </a:solidFill>
          <a:ln w="1260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1311"/>
                </a:solidFill>
                <a:latin typeface="Arial"/>
              </a:rPr>
              <a:t>Временные отчетные формы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218200" y="5445000"/>
            <a:ext cx="1441440" cy="28908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59640" y="5445000"/>
            <a:ext cx="1150920" cy="28908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16000" y="476280"/>
            <a:ext cx="7556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сточники информации для формирования индикаторов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11280" y="1599840"/>
            <a:ext cx="8353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-33048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12 индикаторов собираются из других министерств и ведомств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496080" indent="-3304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44 индикатора входят в официальную статистическую отчетность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496080" indent="-3304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20 индикаторов собираются КГСЭН и РСЭС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496080" indent="-330480"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14 индикаторов находятся  под патронажем Комитета контроля качества оказания медицинских услуг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496080" indent="-330480"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10 индикаторов относятся к подготовке и переподготовке врачебных и средних медицинских кадров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496080" indent="-330480"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2 индикатора предоставляются Республиканским Центром борьбы со СПИД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496080" indent="-330480"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3 индикатора представляется Национальным Центром проблем туберкулеза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496080" indent="-330480"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9 индикаторов получены в результате социологических исследований,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496080" indent="-330480"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16 индикаторов касаются фармацевтической деятельности и предоставляются Комитетом фармации,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496080" indent="-330480"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61 индикаторов собирается из департаментов здравоохранения регионов по временным отчетным формам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04:57:54Z</dcterms:created>
  <dc:creator>user</dc:creator>
  <dc:description/>
  <dc:language>en-US</dc:language>
  <cp:lastModifiedBy>sauko</cp:lastModifiedBy>
  <dcterms:modified xsi:type="dcterms:W3CDTF">2006-11-09T14:00:07Z</dcterms:modified>
  <cp:revision>9</cp:revision>
  <dc:subject/>
  <dc:title>СИСТЕМА МОНИТОРИНГА И ОЦЕНКИ  РЕАЛИЗАЦИИ КОМПОНЕНТОВ ГОСУДАРСТВЕННОЙ ПРОГРАММЫ РЕФОРМИРОВАНИЯ  И РАЗВИТИЯ ЗДРАВООХРАНЕНИЯ  РЕСПУБЛИКИ КАЗАХСТАН  НА 2005-2010 ГОДЫ</dc:title>
</cp:coreProperties>
</file>