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87920"/>
            <a:ext cx="538488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7EC162B-42A0-4E02-AB29-DAA33487A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1BD6F1B-7579-4E9B-9B8A-6CF31E483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35371A6-2711-4F4E-8371-6B93112BB0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4C591D0-5C7F-485E-9178-AA9383FDF2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4D0-75ED-4B99-AF94-82786867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D22-A821-405F-9171-7FE9C01C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9E9-F218-4868-A48E-5493317E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30A-6505-416B-BBB6-208A1420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AD5-5FCF-4A3D-BBB8-10F679BB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76C-B8AB-4335-BEFC-B4E9F175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E6D-7B85-4A54-BA3A-887F4F89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714-0F42-4566-8576-8288063B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835-C55E-421E-A5D2-D461A4AC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8A8-A0F5-441D-8A90-8321B926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B88-2CE0-4F50-9E95-64F56460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A96-32F6-417D-A35D-548C591C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8B4D-7DF1-493F-BFB0-088251D15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2349360"/>
            <a:ext cx="792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реализации  политики в управлении территориальными системами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м.н. С.Г.Нукуш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404640"/>
            <a:ext cx="741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стерство здравоохра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и Казахс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6480" y="6093000"/>
            <a:ext cx="3817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тября 200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" y="95400"/>
            <a:ext cx="909720" cy="89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ерспективы развития охраны здоровья матери и ребе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и реализация с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января 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программы по снижению материнской и младенческой смертности в Республике Казахстан до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и переход 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на критерии живорожденности, рекомендованные В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ершение строительства Республиканского центра материнства и детства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е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и, Республиканского детского реабилитационного центра в г.Астана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ек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все детские и родовспомогательные организации будут оснащены медицинским оборудованием в соответствии с утвержденными нормат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A78-F63F-4383-B7DF-062C943E6A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0680" y="189000"/>
            <a:ext cx="8364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Заболеваемость и смертность от туберкулеза </a:t>
            </a:r>
            <a:br>
              <a:rPr sz="2600"/>
            </a:b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в Казахстане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, 1990-200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5 г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909720"/>
          <a:ext cx="79200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9720"/>
                    <a:ext cx="79200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100400" y="1244520"/>
            <a:ext cx="1752840" cy="167652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084120"/>
            <a:ext cx="1512720" cy="1392840"/>
          </a:xfrm>
          <a:prstGeom prst="upArrow">
            <a:avLst>
              <a:gd name="adj1" fmla="val 43491"/>
              <a:gd name="adj2" fmla="val 37046"/>
            </a:avLst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D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73720"/>
            <a:ext cx="8432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намика эпидемиологической ситуации по туберкулезу по данным ВОЗ оценивается за период 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не менее 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храняющаяся высокая заболеваемость является последствием неэффективного лечения  в середине 199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669-00F4-4DE6-A2F1-58796FD5D90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овышение эффективности программ по борьбе с туберкулез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проводится  оценка эффективности 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O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люс и с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 будет внедрена она в более усовершенствованной форме, включая лечение мультирезистен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хронизация и усиление реализации республиканского и региональных программ по борьбе с туберкул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ормирование фтизиатрической службы республики и ее интеграция  с ПМСП и службами социальной защиты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A6C-86DB-4951-9CB2-99E1022557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гистрация  ВИЧ-инфекции среди населения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спублики Казахстан с 1987 - 2004 гг.(в случа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476280"/>
          <a:ext cx="914400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176-43D2-4F1A-B288-F60896F845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ры по противодействию ВИЧ/СП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н  межотраслевая Программа по противодействию эпидемии СПИДа в Республике Казахстан н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-20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 увеличивается охват антиретровирусной терапией больных с ВИЧ/СПИ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билизованы ресурсы международных доноров, в том числе гранты Глобального фонда по борьбе со СПИДом, туберкулезом и малярией в сумм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2,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ллиона долларов США и Всемирного банка в сумм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ллионов долларов США, подписан Меморандум с Инициативой Фонда Клин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B76-B84F-4B1D-988D-CCA7815A64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8240"/>
            <a:ext cx="8002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Совершенствование качества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дицинской помощ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ду гг. будет создана система управления качеством медицинской помощи в соответствии с международными стандартами, состоящая из трех уровн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й уровень – внутрибольничны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й уровень – независимая медицинская эксперт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й уровень – обязательный государственны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1 июля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ода начато внедрение протоколов диагностики и лечения п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иболее часто встречающимся заболеваниям с целью улучшения контроля качества за предоставляемыми услу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0BB-507A-4A09-A906-116443BF4F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Расходы стран на здравоохранение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в % от ВВП (2004 г.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981000"/>
          <a:ext cx="914400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50920" y="5589720"/>
            <a:ext cx="86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   Данные ОЭСР (Организации экономического сотрудничества и развития)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5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CEB-267D-41ED-9C7B-4DBA3268B5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Показатели бюджетного финансирования отрасли здравоохранения в 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-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 год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268280"/>
          <a:ext cx="8362800" cy="3267000"/>
        </p:xfrm>
        <a:graphic>
          <a:graphicData uri="http://schemas.openxmlformats.org/drawingml/2006/table">
            <a:tbl>
              <a:tblPr/>
              <a:tblGrid>
                <a:gridCol w="3166920"/>
                <a:gridCol w="865440"/>
                <a:gridCol w="863280"/>
                <a:gridCol w="863640"/>
                <a:gridCol w="936720"/>
                <a:gridCol w="16668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2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3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6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(на 01.06.20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Всего расходы на здравоохранение, млрд.тенг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7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9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13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19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расходы на здравоохранение, 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здравоохранения на душу населе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од, в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Z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 9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 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 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Всего расходы здравоохранения в % к ВВ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1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468360" y="4653000"/>
            <a:ext cx="842472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полагается ежегодное увеличение объема финансирования отрасли                                  с доведением его до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к ВВП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ля расходов на ПМСП в общих расходах на здравоохранение увеличились с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0,7%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200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5,7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.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 предполагается увеличение финансирования ПМС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до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845-C758-4ED5-9465-C1DAEA22B5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ервичная медико-санитарная помощь (</a:t>
            </a:r>
            <a:r>
              <a:rPr b="1" lang="en-US" sz="2600" spc="-1" strike="noStrike" u="sng">
                <a:solidFill>
                  <a:srgbClr val="a50021"/>
                </a:solidFill>
                <a:uFillTx/>
                <a:latin typeface="Arial"/>
              </a:rPr>
              <a:t>ПМСП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) – главный приоритет развития и реформирования здравоохранения Казахст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отана новая модель организации ПМСП населению республики, основанная на принципах общей врачебной прак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усмотрены новые стандарты структуры, типовые штаты и штатных нормат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верждены минимальные нормативы (стандарты) оснащения организаций ПМСП медицинским оборуд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делены в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од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3 млрд.тенг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доукомплектование и укомплектование медицинских организаций ПМСП медицинскими кадрами в соответствии со штатными нормат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шли переподготовку и повышение квалификаци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чей общей практики ил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4,5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 общего числа врачей ПМ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ED7-E932-4CD8-903E-F751EC8610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беспечение гарантированного объема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бесплатной медицинской помощи (</a:t>
            </a:r>
            <a:r>
              <a:rPr b="1" lang="en-US" sz="2600" spc="-1" strike="noStrike" u="sng">
                <a:solidFill>
                  <a:srgbClr val="a50021"/>
                </a:solidFill>
                <a:uFillTx/>
                <a:latin typeface="Arial"/>
              </a:rPr>
              <a:t>ГОБМП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на обеспечение ГОБМП предусмотр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40,0 млрд.тенг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,1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ольше, чем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запланирован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19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41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больше, чем расходы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онение расходов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между регионами уменьшилось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,2 р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,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а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.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максимальные расходы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состав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98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Мангистауская область), минимальные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72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Алматинская обла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F89-5FC9-417B-A5F3-E94DFB5C34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86421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«прорывного проекта» по созданию медицинского инновационного кластера г.Астана для прямого трансфера менеджмента и новых технологий по международным стандар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заболеваемости туберкулезом, ВИЧ/СПИД, материнской и младенческой смертности, улучшение показателей продолжительности жизни как основных индикаторов конкурентоспособности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енная реализация Государственной программы реформирования и развития здравоохранения Республики Казахстан на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5-20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новых подходов к оплате труда медицинских работников в зависимости от конечного результата труда с учетом его качества, объема и сложности оказываем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38120" y="14616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ализация Послания Президента Республики Казахстан народу Казахстана «Стратегия вхождения Казахстана в число 50-ти наиболее конкурентоспособных стран мира»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как общенациональной 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3CB-AFBA-466A-9316-1668C6E4D3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Улучшение материально-технической базы организаций здравоохранения в 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ащенность объектов ПМСП медицинским оборудованием и изделиями медицинского назначения увеличилась более, чем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 2,5 ра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бретено медицинского оборудования и оснаще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3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П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АП, что составило соответствен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8,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,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общего количества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уплены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диницы санитарного автотранспорта для СВА (оснащение 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и служб скор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DC6-444F-4DBB-9653-D5CC9E2192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оказатели заболеваемости населения Республики Казахстан социально значимыми болезнями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в 2004-2005 гг.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(на 100 тыс. нас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17440"/>
          <a:ext cx="920124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7440"/>
                    <a:ext cx="92012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26C-2257-4609-A00C-35E46C7F1D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Совершенствование профилактики, диагностики, лечения и реабилитации социально значимых заболев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556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 республиканском бюджете предусмотрено проведение операций по коронарному стентированию (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ных, 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предполагается увеличение количества операций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2 р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ные с сахарным диабе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ены высококачественными препаратами инсулина и средствами его до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 планируется поэтапное обеспечение онкологических диспансеров необходимой аппаратурой для лучевой терапии и маммографами на общую сумм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9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величение закупа химиопрепаратов для онкобольных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2 раза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0,7 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4 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начато создание региональных центров медико-социальной реабилитации наркозависим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201-A839-4861-9D1A-9BE5DF4A3BE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  «Об охране здоровье граждан в РК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О системе здравоохранения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лномоченный орган- Министерство здравоохранения Р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 проведение государственной политики в области здравоохранения, медицинской науки, медицинского и фармацевтическ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 руководство деятельностью организаций медицинского и фармацевтическ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ое  регулирование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1B4-33D0-4163-B8C0-E4C8D6C287D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енное  регулирование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9120" y="1268280"/>
            <a:ext cx="830088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т государственные программы в области здравоохранения, медицинской науки, медицинского и фармацевтическ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ет межотраслевое сотрудничество в интересах здоровья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порядок оказания медицинской помощи и обеспечения лекарственными средствами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ет и утверждает нормативно-правовые акты и нормативные документы, стандарты в области здравоохранен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CB4-6B70-4CB9-8644-8C64DCC2C6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я органов местного государственного управления в области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ируют  государственную политику в области здравоохранения в соответствующей территор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ют реализацию гражданами права на ГОБМП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ют местные органы гос.управления здравоохранением и организуют контроль за кадровым обеспечением гос.организаций здравоохранен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190-97B9-4ED9-840A-76D051E1E0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зграничение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ое разграничение функций и полномочий было закреплено в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году принятием общего пакета изменений и дополнений в более чем 120 законодательн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о ст.29 Закона РК « О местном государственном самоуправлении» назначение  и освобождение на должность руководителя департамента здравоохранения отнесено к исключительной компетенции Акима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808-3D26-41D1-B636-27F45C5FA2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ация ЗРК»О республиканском бюджете на 2006 г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здравоохранения выступает Единым организатором гос.закупок здравоохранения при участии представителей департаментов здравоохранения и ГСЭ надзора областей, г.г. Астана и Алматы по программ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 Целевые текущие трансферты областным бюджетам, бюджетам г.Астаны, Алматы  на закуп лекарственных средств, вакцин и др.иммунобиологических препаратов»( обосновывалось необходимостью обеспечения стандартов качества и безопасности лекарственных средств, вакцин и др.иммунобиологических препаратов , приобретаемых для лечения больных с социально-значимыми заболеваниями и проведения вакцинации нас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7D1-0E33-4D9A-A080-A608FEFEA3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вые текущие трансферты областным бюджетам, бюджетам г.Астаны, Алматы  на материально-техническое оснащение медицинских организаций здравоохранения на местном уровне» -в целях унификации закупа дорогостоящего мед.оборудования(для онкологической службы, кювезов для деских больниц и организаций родовспоможения, маммограф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324-5485-4B63-880E-EA2FEB9E59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спубликанской бюджетной программ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2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Целевые текущие  трансферты областным бюджетам, бюджетам городов Астаны и Алматы                                                                                           на закуп лекарственных средств, вакцин и других иммунобиологических препаратов» на 2007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 противотуберкулезных препаратов (считаем возможным передать данный закуп на местный уровен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 подпрограмме 104 «Целевые текущие трансферты областным бюджетам, бюджетам городов Астаны и Алматы на закуп лекарственных средств, диализаторов, расходных материалов для больных с почечной недостаточностью и лекарственных средств для больных после трансплантации почки»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6B0-D63F-420E-B4B5-629CC2895C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1250"/>
              </a:spcBef>
              <a:spcAft>
                <a:spcPts val="125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ая продолжительность жизни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6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нская и младенческая смертность                               (детская смертность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туберкулеза на бизнес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ВИЧ/СПИД на бизнес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сновные индикаторы здоровья населения, определяющие конкурентоспособность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0A3-9D11-44DC-9354-454DAB1F5C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дпрограмме 103 «Целевые текущие трансферты областным бюджетам, бюджетам городов Астаны и Алматы на закуп химиопрепаратов онкологическим больным»-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грам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левые  текущие трансферты областным бюджетам, бюджетам г. Астаны, г.Алматы на МТ оснащение  медицинских организаций на местном уровне- закуп в феврале – марте  2007 год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C71-C8A2-4DA0-837F-690A85DCA6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Благодарю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FD7-119C-48C5-8348-EA2F32F9B8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жидаемая продолжительность жизни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ри рождении (200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484280"/>
          <a:ext cx="914400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1FB-AA06-4DED-BC8B-A449AC49C5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ры по улучшению показателей продолжительности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ышение доступности и качества медицинской помощи населению путем внедрения новых технологий диагностики и ле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здание единой системы реализации региональных программ по формированию здорового образа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ализация мер по обеспечению чистой питьевой водой, снижение воздействия неблагоприятных экологических и производственных факторов на здоровье населения для снижения смертности насел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A83-C8A8-4F82-88FB-95CF25144F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оказатели младенческой и материнской смертности в Республике Казах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981000"/>
          <a:ext cx="863892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63892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E96B-94FE-46D9-A507-D23850391E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29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Сравнительные показатели младенческой и материнской смертности в 200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1066680"/>
          <a:ext cx="8388360" cy="47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38836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24000" y="5661000"/>
            <a:ext cx="80658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внедрением критериев живорождения с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а, рекомендованных ВОЗ, прогнозируется увеличение показателя младенческой смер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40800" y="1341360"/>
            <a:ext cx="130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100 случаев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67200" y="1484280"/>
            <a:ext cx="14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3901 случай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7AB9-FB6D-4E0A-95E0-340E3F8733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37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храна здоровья матери и ребенка – приоритетная задача Гос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проведены бесплатные профилактические медицинские осмотры женщин репродуктивного возраста от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 (охва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8%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 данной категории ил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7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н.женщин, выявлено больных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,3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здоровлено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9%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все женщины в возрасте о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 пройдут бесплатные профилактические осмотры. Выделе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,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рд. 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беременные женщины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ены железо- и йодосодержащими препаратами.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выделе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2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н.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AFA-A7C5-4FA6-86F6-8A0BC613F4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храна здоровья матери и ребенка –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риоритетная задача Гос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дети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и лет обеспечены бесплатными лекарственными средствами на амбулатор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а  дети  и подростки, состоящие на диспансерном учете  обеспечиваются  бесплатными лекарственными средст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 приобретено медицинского оборудования для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довспомогательных организаций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4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енских консультаций. Выдел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,3 млрд.тен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родовспомогательным организациям для оснащения кювезами, аппаратами искусственной вентиляции легких, УЗИ и другими выдел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,9 млрд.тенг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4D5-26A8-424A-9514-C9BBCC6EFD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0:34:01Z</dcterms:created>
  <dc:creator>Бермагамбетова</dc:creator>
  <dc:description/>
  <dc:language>en-US</dc:language>
  <cp:lastModifiedBy>Расул Дюсенов</cp:lastModifiedBy>
  <dcterms:modified xsi:type="dcterms:W3CDTF">2006-10-20T01:33:48Z</dcterms:modified>
  <cp:revision>356</cp:revision>
  <dc:subject/>
  <dc:title>Слайд 1</dc:title>
</cp:coreProperties>
</file>