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F59B5-B5B6-4779-9CAC-47C305268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A533B-8F98-4357-98B6-3CA9F75C8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BD67C-2F8D-48BF-94F7-2860B5B19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83857-E3D5-4525-976F-414D8D149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447CD-F4E7-44AA-8E45-DF2A062DC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6A35F-F43E-4DF5-8C79-64498B83E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44214-7248-409D-82DE-E6F091C4A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5DD70-F45D-478A-A5B3-5A368EDA3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9B6B9-E26C-4EFE-8EAA-177E24E20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25471-E8A5-4F1D-BBF2-D731DAC62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A3BC3-FA56-46FD-92F0-687E4D58E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6E314-A328-4BFB-8B74-3C55B90FF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7064A-7135-4081-8921-D3DE94063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B7543-1FAA-47E1-8058-BA1B004B9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44CD1-884E-481A-B1A8-CAFDDB8D8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85124-3883-41F0-945E-48B060675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88412-C6AE-4C15-9BED-6155F73D0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555B4-2BF3-435B-8522-4082FD9C5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4282A-D036-400E-B5D5-CB490DB5A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A3E91-4A89-4B75-8125-4CA855F89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7089F-B883-4247-B36E-D3F3F9D88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7A0BA-2278-4044-A015-3EBE84EC7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CC1DF-D2B8-481C-8330-D491505E1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01B8C-7190-4888-BA0A-E7CC74F29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316CE-463D-44B8-B52D-4BC3F2B2D6A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67D61-DA42-4D9B-8EBB-A0D329D7586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33"/>
                </a:solidFill>
                <a:latin typeface="Times New Roman"/>
              </a:rPr>
              <a:t>C</a:t>
            </a:r>
            <a:r>
              <a:rPr b="0" lang="ru-RU" sz="4400" spc="-1" strike="noStrike">
                <a:solidFill>
                  <a:srgbClr val="330033"/>
                </a:solidFill>
                <a:latin typeface="Times New Roman"/>
              </a:rPr>
              <a:t>овершенствование основ политики и управления  в здравоохранении </a:t>
            </a: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f. KULZHANOV M.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zakhstan School of Public Healt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maty, October 20-21, 2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Третьей составляющей оценки качества управления является анализ показателя экономичност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т.е. соотношения результата к затрата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Управленческие решения на уровне области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96% - решения по частным вопроса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,4% - значимые реш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93% - принятые единолично руководителе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0% - развитию общестационарной и ПМС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еобладание решении по вопросам специализированной помощ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Система подбора, обучения и расстановки кадров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тверждение критериев отбо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дбор резерва руководящих кадр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правление на обучение (1-2 годичные курсы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ыдвижение на руководящую долж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знач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ониторин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ередвиж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330033"/>
                </a:solidFill>
                <a:latin typeface="Times New Roman"/>
              </a:rPr>
              <a:t>Управления по результатам в здравоохранении,основные разделы</a:t>
            </a: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Формирование ясных целей и подцелей для системы здравоохран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Формирование системы сбалансированных показателей здоровья и развития системы здравоохран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еханизмы работы в новой системе управления  и взаимодействие  учреждений здравоохранения между собой и с вышестоящими уровнями управл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Финансирование (одноканальная система финансирования, составление проекта бюджета  ориентированного на результат (показатели здоровья и др. индикаторы) (новая форма бюджетной заявки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Пример формулирования целей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ять целей системы здравоохранения для  повышения показателей здоровья населения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нижение смертности населения от болезней системы кровообращ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нижение смертности населения от онкологических заболеваний 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нижение смертности населения от травм и отравлени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нижение заболеваемости населения болезнями органов дыхания, включая ТБ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нижение детской заболеваем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0033"/>
                </a:solidFill>
                <a:latin typeface="Times New Roman"/>
              </a:rPr>
              <a:t>Пример формулирования целей повышения эффективности системы здравоохранения</a:t>
            </a: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94920" y="1599840"/>
            <a:ext cx="8497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работка и внедрение новой системы планирования и  финансирования по методологии бюджетирования ориентированного на результат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работка системы стимулирования ЛПУ за эффективное использование финансовых ресурс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менение системы учета таким образом, чтобы она позволяла оценить воздействие оказываемых услуг на здоровье насе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недрение стандартов качества оказываемых услуг в каждой ЛПУ област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11640" y="333000"/>
            <a:ext cx="2577960" cy="8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продолжение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работка плановых значений уровня качества оказываемых услуг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ведение периодического мониторинга качества оказываемых услу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работка типовой системы мотивации персонала, ориентированной на достижение целе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ормирование единой закупочной политики лекарственного обеспеч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здание Интернет-сайтов департаментов здравоохранения областе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Второй составляющей оценки качества управления является анализ результативност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Результативность характеризуется соотношением поставленных целей и достигнутых результат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0033"/>
                </a:solidFill>
                <a:latin typeface="Times New Roman"/>
              </a:rPr>
              <a:t>Пример показателей, характеризующих результативность здравоохранения</a:t>
            </a: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 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мертность от болезней системы кровообращения на 100 000 населения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вичная заболеваемость туберкулёзом на 100 000 взрослого и детского населения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ктивная выявляемость онкологических заболеваний в I-II стадиях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комплектованность физическими лицами должностей врачей-терапевтов участковых, врачей-педиатров участковых, врачей общей практики их соотношение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дельный вес больных инфарктом миокарда, госпитализированных в первые 6 часов от начала заболева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0033"/>
                </a:solidFill>
                <a:latin typeface="Times New Roman"/>
              </a:rPr>
              <a:t>Примеры целевых показателей реформирования управления системой здравоохранения для областного уровня</a:t>
            </a:r>
            <a:endParaRPr b="0" lang="en-US" sz="29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личие сформированной бюджетной заявки по новой методологии 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ля медицинских работников, прошедших обучение по алгоритмам оказания услуг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личие утвержденного Плана мероприятий по реализации Кадровой политики в сфере здравоохранения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личие Единой базы данных по врачебному и сестринскому персоналу, работающему в учреждениях здравоохранения област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личие базы данных оснащения учреждений здравоохранения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иодичность обновления Интернет-сайта департамента здравоохранения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0033"/>
                </a:solidFill>
                <a:latin typeface="Times New Roman"/>
              </a:rPr>
              <a:t>Пример целевых показателей здоровья для районного уровня управления здравоохранения</a:t>
            </a: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мертность от инфаркта миокарда и цереброваскулярных болезней в район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ольничная летальность от инфаркта миокарда и цереброваскулярных болезней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мертность от травм и отравлений в район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-летняя выживаемость больных онкологическими заболеваниям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частота обострений хронических заболеваний у детей, состоящих на диспансерном учете в данном учреждении здравоохранения, наличие группы ЧД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9T09:25:21Z</dcterms:created>
  <dc:creator>Kulzhanov</dc:creator>
  <dc:description/>
  <dc:language>en-US</dc:language>
  <cp:lastModifiedBy>sauko</cp:lastModifiedBy>
  <dcterms:modified xsi:type="dcterms:W3CDTF">2006-10-19T15:08:37Z</dcterms:modified>
  <cp:revision>4</cp:revision>
  <dc:subject/>
  <dc:title>Cовершенствование основ политики и управления  в здравоохранении </dc:title>
</cp:coreProperties>
</file>