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80F-AB47-49AD-8DC9-BAF46F13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15E-AD28-455E-8601-93236E03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C9F2-3768-42BC-B580-0A1BFE8A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728-0FD2-4E84-8EC9-D7E56662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386A-F552-4EE8-9888-12125168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4532-92C0-4BB4-8971-CA41FAC1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02A7-C6FC-4DBF-A52A-17D8A255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49F7-8AF6-45AF-92B9-E39ED983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4A96-BAB0-4D29-A57D-C11E765D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94C5-BB3D-462E-811F-6BE5BF59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7B2D-E3CA-4408-8ED3-B0F1E4B4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EC1-6E8C-45CF-8685-A870AEF5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8CE6-1381-4333-A296-D73065EE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254E-9B73-4632-9BCE-9A802F1E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463D-7822-42FF-98FC-19C13CCF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6620-FDB2-44E8-B8B7-0889C3C0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AD25-1E81-4787-AF70-2F1A0FA3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B07-D9FA-4D9C-B0CD-A9051106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85BE-BB1E-44AD-8E27-62DC092D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7A6F-8960-4AF6-9D1E-4158829B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46B-E31F-4D7D-978C-AE8C6B57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8A5-A3A4-466C-95E7-F9EF37F5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A75-F2E2-4847-9065-34C92AB2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2A9-47F2-430D-A3BC-4E6EB226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7621-1379-4FDA-B36C-01EAB7EC0C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DD7A-976A-43FC-9DAD-0ED4BEAF8B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временные подходы к научно-практическому сопровождению реформирования системы здравоохранения РК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Биртанов 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Институт развития здравоохранения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МЗ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Главная цел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Определение главной цели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разработка и реализация новых программ реформирования здравоохранения -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задача для всего обще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с реальным участием всех государственных и общественных институтов, а в первую очередь –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 реальным участием населен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с учетом его реальных и перспективных потребностей в охране и укреплении здоровья в условиях глобальной интеграции и конкурен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беспечение эффективности реформ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аучно-методологическое обеспе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рганизационное обеспечение (финансовое, нормативное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- проблем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есовершенство планирования и управления НИ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малые инвести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изкая инновационная результативно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лабый потенциал (кадровый, технический, методологический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лабая международная интеграция, отсутствие конкурентоспособности на внешнем и внутреннем «рынке» НИ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- состоя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Слабый уровень и качество исследований системы здравоохранения, их невостреб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рая недостаточность современных, научно-обоснованных, инновационных технологий</a:t>
            </a: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 в области организации, управления и экономики здравоо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Неспособность науки полноценно решать актуальные проблемы реформирования и развития здравоо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– новые подход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еформирование системы управления научно-технической сферой стра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В принципиальном плане эту новацию можно трактовать как переход от управления научными учреждениями, как это было раньше, к управлению научными исследованиями» (Из выступления Президента на юбилейном заседании НАН РК 13.10.2006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еформа управления наукой в РК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оздан ВНТК под руководством Премьер-Министра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оздан Комитет по науке МОН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ет создан Фонд наук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ут созданы 5 национальных лабораторий открытого типа по приоритетным направлениям, 15 университетских лаборатор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дготовка перспективных ученых за рубежом и в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ет принята Государственная программа развития науки на 2007-2012 гг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– новые подход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величение инвестиций в НИР 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earch &amp; development)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в том числе из негосударственных источник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зработка инновационных технологий и обеспечение их внедр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иление кадрового, технологического (ИТ) и методологического потенциала 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pacit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недрение международных стандартов, принципов корпоративного управления в деятельность научных организац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учение и адаптация лучшего мирового опыта и технологий на основе прямого и эффективного международного сотрудничест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Обеспечение реформ и развития здравоохранения – основные компоненты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ратегическое планирование и управ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ффективное и рациональное финанс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ередовая научно-методологическая ба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ачественная нормативная ба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временная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нституциональная баз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развит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циональная поддержка устойчивого развития эконом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онды и институты развития для реализации проектов в несырьевом сектора экономики (АО «Казына») - 136 проектов на сумму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,6 млрд., в 2007-2009 гг. инвестиционная потребность –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0 млрд. из них с участием институтов развития -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,5 млрд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инансирование науки в 2007 г. составит науки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35 млн., из них – 10% из Фонда нау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ты развития здравоохран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чевидно, в РК необходимы современные национальные институты развития сферы здравоохранения в рамках развития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оциальных секторов экономик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Цель – научное, организационно-методологическое, образовательное и финансовое обеспечение реформирования и устойчивого развития системы здравоохранения в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еформы в здравоохранен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аучно-методическое и организационное сопровождение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ты развития здравоохранения – новые задач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учно-методологическая поддержка негосударственного здравоохран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Разработка и поддержка инвестиционных проектов в сфере здравоохран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влечение негосударственных, в том числе, иностранных инвестиций в отрасл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беспечение внедрения современных стандартов и технологий управления и финансирования в здравоохранен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оведение маркетинговых, социологических исследован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беспечение конкурентоспособности отечественного здравоохранения в регионе и мир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аким образом, сегодня нам необходимы новые стратегии в реформировании сферы здравоохранения, основанные на четком видении перспективных целей, на интеграции со всеми секторами экономики, и на основе применения современных научных и институциональных технологий развит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пасибо за вним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еформирование здравоохран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еобходимость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пыт реформ прошлых ле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иоритеты дальнейших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еобходимость рефор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фундаментом динамично процветающего общества может быть только современная, конкурентоспособная и открытая рыночная экономика…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Послание Президента РК Н.А.Назарбаева народу Казахстана «Стратегия вхождения Казахстана в число 50-ти наиболее конкурентоспособных стран мира. Астана, 1 марта 2006 г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Готово ли отечественное здравоохранение стать элементом такого общества и такой экономик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пыт прошлых ле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Логика прошлых реформ: сложившаяся ситуация и имеющиеся предпосылки обуславливали цели развития – планирование от достигнутог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За всю историю развития отечественного здравоохранения во время реализации разных программ реформирования системы здравоохранения не было проведено ни одной серьезной реструктуризации отрасли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…» (Аканов А.А., Здравоохранение Казахстана: на пороге структурных преобразований (взгляд в будущее, 200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оритеты будущих рефор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еформа здравоохранения должна быть интегрирована с системной модернизацией экономики всей стра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еобходимо определить место и роль системы здравоохранения в процессе построения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овременного постиндустриального общества с высоким уровнем благосостояния и социального обеспечения, с эффективной многоотраслевой национальной экономико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иоритетные задачи программы модернизации эконом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одоление бедности и создание среднего класс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здание необходимых условий для повышения качества человеческого капитал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здание условий для диверсификации экономи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силение роли государства в формировании конкурентоспособной экономи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билизация внутренних накоплений для инвестирования экономических преобразовани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тие производственной и социальной инфраструктур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К.Берентаев, КАПИТАЛ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Z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2006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азработка долгосрочной стратег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Формулировка главной цели развития отрасли в рамках социально-экономического развития на долгосрочную перспектив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Конкретизация целей с выделением этапов их реализа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пределение необходимых условий и предпосылок для каждого этап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т будущего состояния к текущему – увязка между задачами различных этапов, их предпосылками и условия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Главная цель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окончательно сформировать новую модель здравоохранен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Здравоохранение как основной и «цементирующий» элемент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социальной политики государ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для построения конкурентоспособного общества на основе развития эффективной национальной эконом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Здравоохранение как часть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национальной экономической доктрины государ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в условиях глобальной рыночной эконом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7:14:52Z</dcterms:created>
  <dc:creator>Serg</dc:creator>
  <dc:description/>
  <dc:language>en-US</dc:language>
  <cp:lastModifiedBy>Serg</cp:lastModifiedBy>
  <dcterms:modified xsi:type="dcterms:W3CDTF">2006-10-20T01:13:03Z</dcterms:modified>
  <cp:revision>10</cp:revision>
  <dc:subject/>
  <dc:title>Современные подходы к научно-практическому сопровождению реформирования системы здравоохранения РК</dc:title>
</cp:coreProperties>
</file>