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0E4-222F-4C6B-81DB-14A4A642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09D-E3B7-4347-8AED-5C77744D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16B-383A-40B8-8113-1B68FA5A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83B-2C15-418C-856C-935364D5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491D-81C2-4BDF-ABE3-FD927FA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FE2-C29D-4CB6-9B6E-5A3BE551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422-4DDF-40D9-A122-CD0B2642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8AD-B336-4ADD-B19B-E912E484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59A3-BE4C-4FCA-A335-4ED46B26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280B-45DE-4032-883E-413F9D49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E62-472A-4DD4-9FE9-C8EB1730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F9A-5307-4A98-A1C6-6EA17C9A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4719-5763-47C4-B3DF-1E1084B3A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сто и роль службы крови в обеспечении безопасности медицинской помо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ститут развития здравоохранения МЗ 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ймагамбетова М.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комендации ВОЗ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жба переливания крови с централизованным управлением на уровне страны и системами управления качеством на все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отовка крови от добровольных доноров из групп населения с низким риском на безвозмездной основе. Привлечение к донорству здоровых людей уменьшает риск сбора инфицированной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рининг всей заготовленной крови на маркеры гемотрансмиссивных инфекций: ВИЧ-инфекция, гепатиты и сифи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екватное клиническое использование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е ежегодного Дня Донора 14 ию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*ДОКУМЕНТЫ ВОЗ и МЕЖДУНАРОДНЫЕ ПРОЕКТЫ Выпуск 14, Январь 2006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лобальная программа ЕС по координации службы крови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по трансфуз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пция государственной поли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и подзаконные нормативные а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ая материально-техническая б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юджет, выделенный специально для реализации Государственной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вольная безвозмездная сдача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ые стандарты деятельности организаций службы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лифицированный персонал на республиканском и местных уровн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ая оценка качества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tory Instrument 2005 N5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рабочей группы при МЗ РК с участием научных и практических работников для выработки следующих научно обоснованных 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Концепции государствен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развития службы крови в области безопасного доно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стема поощрения донорства на бесплатной осн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рограмма по развитию и стандартизации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стандартов для различных уровней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териально-техническое оснащение (оборудование, помещения, персон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андарты каче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работка научно обоснованной методологии аудита и проведение аудита всех организаций службы кр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степени соответствия стандар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требностей реги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рнизация службы кр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снование госинвестиций на основе отчета по результатам ауд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оснащение существующи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тие новых\увеличение мощностей или оптимизация действующих согласно оценке потребностей реги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едлагаемые меры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 реализации Государствен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сть ретроспективного наблюдения реципиентов крови и крове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силить пропаганду бесплатного дон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зопасность крови и кровепродук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едупреждение передачи с донорской кровью инфекционных заболевани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Ч инфек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епатитов В и С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фи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овая осн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Республике Казахстан деятельность службы крови регламентируется следующими закона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б охране здоровья граждан в Р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донорстве крови и ее компонент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 РК «О профилактике заболевания СПИД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уктура службы кров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ы крови (республиканский, областные, г.г. Астана и Алматы, региональные) – 2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деления переливания крови в ЦРБ и ряде сельских больниц –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ницы, заготавливающие кровь –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По данным РЦ кров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2006г.</a:t>
            </a:r>
            <a:r>
              <a:rPr b="0" lang="kk-K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лужба крови осуществля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ятельность по снабжению организаций здравоохранения кровью и ее компон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работку показаний к переливанию крови и ее продуктов в клин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едрение новых препаратов крови, консервирующих растворов, а также кровезамен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оль службы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бор дон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р и заготовка крови и ее проду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безопасность кров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перебойное снабжение лечебных организаций цельной кровью и ее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ветственность за здоровье дон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дельные показатели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ичество доноров – 300 тыс.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м заготовки консервированной крови – 280 тыс.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ливание цельной крови – 4,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По данным РЦ крови –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ИЧ-инфекция среди доно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3 году 30 доноров с ВИЧ были выявлены в 5 областях республик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4 году – 22 донора в 7 облас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2005 году – 30 доноров в 8 областя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имущественно эти доноры из группы риска (9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начало 2006 года (за период регистрации ВИЧ в РК) выявлено всего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2 донора с ВИЧ инфекцие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кровь уничтоже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 ВИЧ инфицированных рецип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бсолютный брак кр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реднем в год более 4%* забираемой крови уничтожается в связи с положительными результатами в ИФА на ВИЧ, гепатиты В и С, сифил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- по данным РЦ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14:22:47Z</dcterms:created>
  <dc:creator>18</dc:creator>
  <dc:description/>
  <dc:language>en-US</dc:language>
  <cp:lastModifiedBy>18</cp:lastModifiedBy>
  <dcterms:modified xsi:type="dcterms:W3CDTF">2006-10-20T02:09:19Z</dcterms:modified>
  <cp:revision>27</cp:revision>
  <dc:subject/>
  <dc:title>Место и роль службы крови в обеспечении безопасности медицинской помощи</dc:title>
</cp:coreProperties>
</file>