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4EB0-F8E3-4888-8F5D-1AAEA44E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15CA-B95E-4B6F-93F6-03057122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74BC-E334-45E7-A3BF-8E9AD2512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3199-D7F3-48DF-85DE-22235364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3865-3FF9-4672-9FA2-C9972B688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E8DF-54DF-4C05-9EA1-144C1EAF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6912-5501-4473-A482-E3E6C9B1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61ED-672F-4391-87D6-4F202D76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8055-C03D-49F5-8938-C72613A9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61EE-6D1E-42E7-95FC-CC484413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76D7-F804-4951-A7A5-A0C8D4DC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F973-91D4-46B9-8861-DD44A3DE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0345-C812-4FB1-82D0-6F62E544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05CF-9E8B-4825-8D22-9AAEA12F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73A5-C391-40B2-9D07-9BB0B0F9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3BB2-1D29-4BB2-9D26-4E6124011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4BA2-E12F-49A2-A29C-A120ECF0D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434E-0EC1-4FCD-BCCB-F1268D40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1A23-99E4-40D7-B92C-A9F1C33A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CEC7-A80A-4FE4-B59A-718EE157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4933-CE41-47DB-A266-BEB05BF1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49F5-387C-48FA-8F0C-C91DC6FA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2F00-362A-4199-9ADB-BF6E9BBE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B3D9-7786-416B-A5A2-E166E564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2199-ED47-4E40-90E0-26A1B474F7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9FF7-DC34-4CE3-B268-A57DE743E1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7640" y="466200"/>
            <a:ext cx="7064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Взгляд в будущее. </a:t>
            </a:r>
            <a:br>
              <a:rPr sz="4800"/>
            </a:br>
            <a:r>
              <a:rPr b="0" i="1" lang="ru-RU" sz="3200" spc="-1" strike="noStrike">
                <a:solidFill>
                  <a:srgbClr val="330066"/>
                </a:solidFill>
                <a:latin typeface="Monotype Corsiva"/>
              </a:rPr>
              <a:t>Здравоохранение Казахстана на пороге структурных преобразований</a:t>
            </a: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сновные элементы Госпрограмм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ренное преобразование ПМС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форма больничного де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здание трехуровневой системы контроля качества медицинских услу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недрение международных стандартов в лекарственном обеспечен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форма медицинского образования и нау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диная информационная систе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тие специализированных служ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еловеческие ресурс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вершенствование управления отрасль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Реализация Госпрограмм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каждому направлению разработана концепция на 2006-2010 г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чата реализация программ реформирования ПМСП, медицинского образования, развития человеческих ресурсов, управления и финанс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ближайшее время должны развиваться остальные разделы программы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ывод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 проведено ни одной серьезной реструктуризации отрас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волне больших финансовых вливаний отмечается тенденция увеличения  интенсивных показателей, на фоне низкого качества медицинских услу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обходимость структурных преобразований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создание новых отношений, ориентир на конечные результаты деятельности, качество медицинских услуг, ресурсное обеспечение кадрами новой формации, модернизация, внедрение международных стандартов образования, медицинской науки и практи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330066"/>
                </a:solidFill>
                <a:latin typeface="Arial"/>
              </a:rPr>
              <a:t>Вызовы времени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ирование философии новой моде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недрение парадигм рыночной эконом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лная интернационализация конкурентоспособного сектора: переход на международные стандарты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НАСТОЯЩАЯ РЕФОРМА ВПЕРЕД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ЧС В ЮК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ассовое заражение  детей от 2-х месяцев до 2-х лет 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очему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истемные наруш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рганизации медицинской помощ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дицинских технолог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блемы в управлении системой здравоохран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чины кризис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1719360"/>
            <a:ext cx="8785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эффективная деятельност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ужбы кров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анитарно-эпидемиологического надзо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ужбы внешнего контроля качества медицинских услу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ужбы внутреннего контроля качест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ужбы противодействия ВИЧ\СПИ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уществующая система здравоохранения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отвечает за последст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заинтересована в конечном результат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мотивирована во внедрении последних современных технологий и достижений медицинской нау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хнологически и материально отстал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конкурентоспособ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опросы, которые волнуют на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то будет с существующей системой организации здравоохранения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ой будет новая модель? Как будет развиваться здравоохранение в ближайшие годы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 вернуть доверие населения и уверенность медицинским работникам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ие проблемы отрасли сегодня наиболее актуальны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 усилить госпрограмму реформирования и развития отрасли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ткрытые вопросы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ужен ли переход на страховую медицин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создать систему здравоохранения, предполагающую ответственность пациента: сооплата, доплата…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увеличить зарплату медицинским работникам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создать стимулы для повышения качества услуг и конкуренци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стория рефор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992 г.- необходимость создания новой системы здравоохранения: советская моде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996-1998 гг. – разработка  и внедрение бюджетно- страховой системы здравоохран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 1999 г. - бюджетная модель: постсоветская систе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Уроки рефор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и одна реформа отрасли не была доведена до логического конца, не осмыслена, не проштудирована с извлечением глубоких и системных вывод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была проведена действенная структурная реформа отрасли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Этапы реформ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се предыдущие усилия – первый этап реформ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ель второго этапа – формирование новой модели здравоохране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р: Государственная программа реформирования и развития здравоохранения на 2005-2010г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6:41:17Z</dcterms:created>
  <dc:creator>test</dc:creator>
  <dc:description/>
  <dc:language>en-US</dc:language>
  <cp:lastModifiedBy>user</cp:lastModifiedBy>
  <dcterms:modified xsi:type="dcterms:W3CDTF">2006-10-19T11:26:07Z</dcterms:modified>
  <cp:revision>15</cp:revision>
  <dc:subject/>
  <dc:title>Слайд 1</dc:title>
</cp:coreProperties>
</file>